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54432-4F49-4D40-BDBE-1CC6F9351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BA4-F630-4A75-9EBA-D22A04AD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0DE-97DA-419E-A6AE-4F612002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712-3995-42C4-879C-FAA41DA0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07C-2410-49B8-8153-BF85E714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CF9-2025-44B9-BA9F-B834A2E0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50F-70BF-4587-8816-99377BC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746-050D-40B1-990F-F590D557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3C0-BBF9-4AAD-8E7E-CFCD63DF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9F2-E0BE-4079-92B9-808B8D24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4D5-E1D4-42C6-9068-69A7627A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510-1C87-45F7-A1E3-4FF7785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689-9061-4733-A55D-6EDAFCA0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B6988-74A2-42E8-A233-894FAF1F4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ankl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07640" y="266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y Sheppe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sandra Tay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nnifer M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e a white gir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00840" y="1828800"/>
            <a:ext cx="3371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for pl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-natur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pt the finest ale from all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ways had a house full of food open to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part of the Mercantile/Third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rich landowner who lived an eas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14840" y="1924200"/>
            <a:ext cx="385776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9920" y="20970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ngu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heerful and good-na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ed ge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ll-born, wealthy land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rd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k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wealthy land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s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cal court procee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urus- a Greek philosopher who taught that the goal of life is pleasure, “sensual delight was the one true felecity in sight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Julian- a patron saint of hospitality, “he made his household free to all the coun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book pages. 149-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9:48Z</dcterms:created>
  <dc:creator>PCSC</dc:creator>
  <dc:description/>
  <dc:language>en-US</dc:language>
  <cp:lastModifiedBy/>
  <cp:revision>1</cp:revision>
  <dc:subject/>
  <dc:title/>
</cp:coreProperties>
</file>